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A2C-4745-41B3-8CBD-76B2E29A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5D18-1B92-48B1-8C65-26179994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3684-F3D3-42B5-9F64-4F4BB7BE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A13-D89C-439D-A987-AAF32C53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D85B-8B8F-4E82-9DAA-20251268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AAE5-E655-44D2-893F-C592FBA8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337F-6AF3-4F20-9D3F-8FBBCE35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CA53-783F-47BC-A675-04CAD01F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CC29-E349-4B01-8C69-295678E8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1AA8-6E5F-4D41-9FB4-825DC598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CFC7-7DF7-44F3-AF0C-CFB4AF79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08CB-88AA-4E12-843B-3CF5D982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BA72-98BD-41B0-8A36-1391BE7D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EA3F-7B0D-4F9E-B327-7785A305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4984-C2B3-4FA6-97A0-A9A9278F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6C22-D788-406F-8097-26192A3A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DF61-EF00-4CB3-9B7C-3BA9C042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FCA-E52B-4909-AA38-DA5B07C7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BC3-B564-4E5D-8DA9-13C61F2B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BFC-E082-4268-8446-62106D36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53C-4AD9-4DCE-A555-6CA1A1C0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A70-F2A6-4D34-95E1-9202E1BD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2F1-6139-433B-BFD7-9F7C2C7C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C42-E06D-4581-B139-1168B1AF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236B-C57D-4DF2-9BE3-457743DA53C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3E47-5033-45B4-AB0C-208A82C4B15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ЛИШНИЙ ВЕС</a:t>
            </a:r>
            <a:endParaRPr b="1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ли как съесть больше, а весить меньш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ЖЕ ДЕЛАЕТ НАС  ПОЛНЫМИ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981080"/>
          <a:ext cx="8001000" cy="4343400"/>
        </p:xfrm>
        <a:graphic>
          <a:graphicData uri="http://schemas.openxmlformats.org/drawingml/2006/table">
            <a:tbl>
              <a:tblPr/>
              <a:tblGrid>
                <a:gridCol w="2209680"/>
                <a:gridCol w="2590920"/>
                <a:gridCol w="320040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АЛОРИ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ОЛИЧЕСТВО КАЛОРИЙ В 1 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ПРОЦЕНТ ЭНЕРГИИ, НЕОБХОДИМОЙ ДЛЯ ОТЛОЖЕНИЯ В ЖИРОВУЮ ТКАН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ИСТОЧНИКИ ЖИРА В НАШЕМ ПИТА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Рекомендация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 3-4 ст. ложки в день растительног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асла для здорового человека достаточн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05740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5740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934320" y="4800600"/>
          <a:ext cx="4413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800600"/>
                    <a:ext cx="441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086600" y="5716440"/>
            <a:ext cx="160020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4114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лочные продукт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302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астительные масл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ИЧЕСКИЕ УПРАЖ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438280"/>
            <a:ext cx="990720" cy="81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38132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086600" y="5257800"/>
            <a:ext cx="1822320" cy="12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3581280"/>
            <a:ext cx="67057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занятия физкультурой 20 минут 2 раза в день, необходимо снизить потребление калорий только на 17% для достижения того же результат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181480"/>
            <a:ext cx="617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лагодаря упражнениям повышается метаболизм и вы теряете вес даже во время отдых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438280"/>
            <a:ext cx="670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тобы сбросить 0,5 кг в неделю необходимо снизить потребление калорий на 28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УЧШЕ НИКОГДА, ЧЕМ ПОЗДН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ктивность на протяжении дня способствует сжиганию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оддержание температуры тела требует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Температура тела максимальна в 2-3 часа дн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ечером температура ниже, чем днё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ри снижении активности и температуры тела сжигается меньше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486400"/>
            <a:ext cx="79246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Я никогда не встречал полного человека, который бы не пропускал завтрак и не отказывался от ужина»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Пэт Харпер, доктор Американской Диетической Ассоциац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03364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ОБЩЕГО У ПОЛНЫХ   ЛЮД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плотный уж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втракают мало, или вообще не завтрак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сто перекусыв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дят быстро, не пережёвывая пищу как следу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 пьют достаточного количества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лоподвиж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дпочитают пищу из очищенных проду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жирную пищ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ИВНАЯ ПРОГРАММА СНИЖЕНИЯ ВЕ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низьте употребление жиров и очищенной пищи, включите в свой рацион продукты, богатые клетчатко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Упражняйтесь ежедневно 40 минут в ден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ткажитесь от ужина, или сделайте его лёгким и ранним (за 4 часа до сна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Не перекусывайте, вместо этого пейте в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598920" cy="3468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вышенный вес – 10…19%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жирение – 20% и больше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666880"/>
          <a:ext cx="8001000" cy="40338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-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5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-6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-7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6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1905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енщ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40600" y="228600"/>
            <a:ext cx="646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жч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433600"/>
          <a:ext cx="8001000" cy="427176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2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7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-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4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-9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-9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524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ЕКС МАССЫ ТЕ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648240"/>
            <a:ext cx="5867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 = ВЕС : (РОСТ в МЕТРАХ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=18.5 до 26.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АДАЮЩИЕ ОЖИРЕНИ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меют в 3 раза больше риск инфар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4 раза больше склонны к повышенному давлен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5 раз чаще болеют диабе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ероятность повышенного уровня холестерина в 5 раз больш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6 раз чаще страдают болезнями желчного пузыр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ще болеют ра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олее склонны к депресс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29400" y="5029200"/>
            <a:ext cx="1539720" cy="1600200"/>
            <a:chOff x="6629400" y="5029200"/>
            <a:chExt cx="1539720" cy="1600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629400" y="5029200"/>
              <a:ext cx="1539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6629400" y="5029200"/>
              <a:ext cx="15397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14280" y="2362320"/>
          <a:ext cx="67168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2320"/>
                    <a:ext cx="67168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1430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6858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Ожирение и риск смертности от рак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ОВАЛИ СЕСТЬ НА ДИЕТУ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«Из 100 человек, садящихся на диету для похудания, 95 набирают свой прежний вес, и даже превышают его, в течение года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ктор Ганс Дэй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10200">
            <a:off x="1676160" y="281952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ardvark"/>
              </a:rPr>
              <a:t>СЮРПРИЗ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ardvark"/>
              <a:ea typeface="Aardvark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1958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ПОЧЕМУ ?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 ВРЕМЕННЫХ            ДИ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ля эффективного сжигания жиров необходимо достаточное количество калорий, особенно из углево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 недостаточное количество калорий организм реагирует замедлением метаболиз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ответ на голодание организм начинает расщеплять клетки мышц для восполнения недостающих кало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использовании строгих диет и голодании снижение веса происходит в основном за счёт потери мышечной массы и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7:41:05Z</dcterms:created>
  <dc:creator>Ostapenco</dc:creator>
  <dc:description/>
  <dc:language>en-US</dc:language>
  <cp:lastModifiedBy>Черевичная Вера Петровна</cp:lastModifiedBy>
  <dcterms:modified xsi:type="dcterms:W3CDTF">2007-01-23T10:13:30Z</dcterms:modified>
  <cp:revision>24</cp:revision>
  <dc:subject/>
  <dc:title>ЛИШНИЙ ВЕС</dc:title>
</cp:coreProperties>
</file>